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B4A-436D-457C-87E2-B35BB20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BEF-01EC-46D7-81DB-E93D269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F4F-B02B-4C6F-A766-3CD1239F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968-5E61-4203-A273-658FA256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907-4A67-4875-B88D-ECBF7F9F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4C6-1A99-4767-B739-516876B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D37-8D13-478C-ABDD-14E7900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186-2E89-40A3-A630-1586FF7C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7C7-013E-425B-A893-3284C573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CC5-0176-4C89-A641-EE9E75E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F3A-B881-480C-BF02-5725284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8AA-F2EA-4ED6-A674-FF00AC0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25F-89ED-4FCF-B673-A0DA3E243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857160" y="1285920"/>
            <a:ext cx="734544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07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Eras Demi ITC"/>
                <a:ea typeface="Arial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Eras Demi ITC"/>
                <a:ea typeface="Arial"/>
              </a:rPr>
              <a:t>FLEGT EN COTE D’IVOIRE</a:t>
            </a:r>
            <a:r>
              <a:rPr b="1" lang="fr-FR" sz="3600" spc="-1" strike="noStrike">
                <a:solidFill>
                  <a:srgbClr val="000000"/>
                </a:solidFill>
                <a:latin typeface="Eras Demi ITC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27b75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1"/>
          <a:stretch/>
        </p:blipFill>
        <p:spPr>
          <a:xfrm>
            <a:off x="781200" y="-23760"/>
            <a:ext cx="7296120" cy="81576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8"/>
          <p:cNvSpPr/>
          <p:nvPr/>
        </p:nvSpPr>
        <p:spPr>
          <a:xfrm>
            <a:off x="0" y="714240"/>
            <a:ext cx="914400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re 1"/>
          <p:cNvSpPr/>
          <p:nvPr/>
        </p:nvSpPr>
        <p:spPr>
          <a:xfrm>
            <a:off x="857160" y="3000240"/>
            <a:ext cx="7429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ibreville , l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7 Novembr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ésenté p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ubacar Ben SALA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ésident du SPIB / Membre du Comité Technique Négociation Fl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>
            <a:lum contrast="38000"/>
          </a:blip>
          <a:stretch/>
        </p:blipFill>
        <p:spPr>
          <a:xfrm>
            <a:off x="357120" y="4894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47" name="Image 2" descr="Description : stockage de frises de jointés"/>
          <p:cNvPicPr/>
          <p:nvPr/>
        </p:nvPicPr>
        <p:blipFill>
          <a:blip r:embed="rId3"/>
          <a:srcRect l="0" t="8693" r="0" b="12449"/>
          <a:stretch/>
        </p:blipFill>
        <p:spPr>
          <a:xfrm>
            <a:off x="6215040" y="4894200"/>
            <a:ext cx="2406600" cy="1820880"/>
          </a:xfrm>
          <a:prstGeom prst="rect">
            <a:avLst/>
          </a:prstGeom>
          <a:ln w="0">
            <a:noFill/>
          </a:ln>
        </p:spPr>
      </p:pic>
      <p:pic>
        <p:nvPicPr>
          <p:cNvPr id="48" name="Image 7" descr="D:\BUREAU D'ETUDES DPIF\FLEGT\PROJET ATELIER NATIONAL FLEGT\MISSION EFI  DU 24 AU 31 JUIILET 2012\Photos\P1020394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3243240" y="4894200"/>
            <a:ext cx="2471760" cy="182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85480" y="11430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. Recherche d’un consensus au niveau 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tap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.    2009: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ntacts avec Forest Governance and Timber Trade – EU FLEGT 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.     Octobre 2009 à février 2010 rencontres d’information entre le MINEF, l’UE, EFI et le secteur privé sur le processus FLE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Juin 2011 à avril 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mise en œuvre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 du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projet ACP-FLEGT : tenue de réunions d’information et de sensibilisation  des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parties-prenantes de l’Administration, du Secteur privé et de la Société civile à l’initiative FLEG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500040" y="142920"/>
            <a:ext cx="8143920" cy="714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-EVOLUTION DU PROCESSUS F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"/>
          <p:cNvPicPr/>
          <p:nvPr/>
        </p:nvPicPr>
        <p:blipFill>
          <a:blip r:embed="rId1"/>
          <a:stretch/>
        </p:blipFill>
        <p:spPr>
          <a:xfrm>
            <a:off x="195120" y="1981080"/>
            <a:ext cx="3827520" cy="4327560"/>
          </a:xfrm>
          <a:prstGeom prst="rect">
            <a:avLst/>
          </a:prstGeom>
          <a:ln w="0">
            <a:noFill/>
          </a:ln>
        </p:spPr>
      </p:pic>
      <p:sp>
        <p:nvSpPr>
          <p:cNvPr id="75" name="Sous-titre 2"/>
          <p:cNvSpPr/>
          <p:nvPr/>
        </p:nvSpPr>
        <p:spPr>
          <a:xfrm>
            <a:off x="4286160" y="1785960"/>
            <a:ext cx="46436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Résultats du proj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812 parties prenantes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leaders d’opinion pour la plupart (sur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928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ttendues), ont été informées et sensibilisées sur le FLEGT et l’APV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Recommandation principale 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parties prenant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dhésion de la CI au processus FLEG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571680" y="142920"/>
            <a:ext cx="8143560" cy="8571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-EVOLUTION DU PROCESSUS  F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ous-titre 2"/>
          <p:cNvSpPr/>
          <p:nvPr/>
        </p:nvSpPr>
        <p:spPr>
          <a:xfrm>
            <a:off x="571680" y="1071720"/>
            <a:ext cx="742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 u="sng">
                <a:solidFill>
                  <a:srgbClr val="000000"/>
                </a:solidFill>
                <a:uFillTx/>
                <a:latin typeface="Calibri"/>
              </a:rPr>
              <a:t>Etapes 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su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5676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. Préparation aux négociations d’un AP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Eta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juin à décembre 201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tenue Atelier National FLEGT à Abidjan ( Décembre 201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réalisation de l’état des lieux participatif sur la légalité du bois et de sa vérifica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. juillet 2012,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ssion d’appui de l’EFI et l’ONG F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et renforcement des capacités des Organisations de la Société Civile ivoirie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. février 2013, réponse favorable de l’UE à la demande d’ouverture des négociations de l’APV/FLEGT de la CI à l’UE (Janvier 2012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571680" y="0"/>
            <a:ext cx="8143560" cy="714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-EVOLUTION DU PROCESSUS F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14200" y="107136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Etap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ui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. Janvier 201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se en place des 4 collèges (Administration, Secteur privé, Société civile et Chefferie traditionnelle), plateforme multi-acteurs de consult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signation des points focaux FLEGT pour la constitution du collège Administr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to-organisation des 3 autres collège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. mai 201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é</a:t>
            </a:r>
            <a:r>
              <a:rPr b="0" lang="fr-BE" sz="2200" spc="-1" strike="noStrike">
                <a:solidFill>
                  <a:srgbClr val="000000"/>
                </a:solidFill>
                <a:latin typeface="Calibri"/>
              </a:rPr>
              <a:t>signation des négociateurs du Comité Technique de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BE" sz="2200" spc="-1" strike="noStrike">
                <a:solidFill>
                  <a:srgbClr val="000000"/>
                </a:solidFill>
                <a:latin typeface="Calibri"/>
              </a:rPr>
              <a:t>Négociatio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6. juin 201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1360" indent="-262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éclaration commune (13 juin 2013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1360" indent="-262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enue de la première session formelle, à caractère politique, des négociations (20 et 21 juin 2013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571680" y="142920"/>
            <a:ext cx="8143560" cy="8571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300" spc="-1" strike="noStrike">
                <a:solidFill>
                  <a:srgbClr val="000000"/>
                </a:solidFill>
                <a:latin typeface="Arial Black"/>
                <a:ea typeface="Arial"/>
              </a:rPr>
              <a:t>II- EVOLUTION DU PROCESSUS FLEG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14200" y="92880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. Structuration du CTN (17 memb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. Membres permanent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Négociateur en chef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Point focal FLEGT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2. Représentants de l’Etat et des parties-prenantes 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 représentant de la Présidence de la République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 représentant de la Primature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 représentant de l’Assemblée nationale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5 représentants du Collège Administration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3 représentants du  Secteur Privé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3 représentants du Collège Société Civile 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 représentant de la Chefferie traditionnell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Secrétariat Technique Permanent , 7 membres dont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4 représentants du MINEF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1918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3 représentants (Collèges Administration, Secteur Privé et Société Civile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571680" y="0"/>
            <a:ext cx="8143560" cy="8571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- EVOLUTION DU PROCESSUS F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. Appu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 de proje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format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 des vidéoconférence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O: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appuis techniqu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I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se à disposition du CT (juin 201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 d’ateliers, d’étud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tages d’expérience: Cameroun, Congo, Ghana, Centrafrique, et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571680" y="71280"/>
            <a:ext cx="8143560" cy="785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- EVOLUTION DU PROCESSUS FLE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28760" y="78552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0" indent="-1371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-Plan 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urer une bonne Gouvernance Forestière  par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Meilleure  Application des Lois ;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éduction sensible de l’exploitation illégale du boi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Démarche de vérification de la légalité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Mise en place d’une plateforme multi-acteu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Gestion Durable des Forêt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Déforestation planifiée et l éga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 Créer une synergie  d’actions avec tous les acteurs  etc.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Garantir la transparence dans la gestion forestiè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Renforcement des capacités techniques et opérationnelles des services administratifs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Amélioration du cadre juridique et institutionnel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Finaliser la révision du code forestier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Finaliser le Code foncier  rural de 1998 et le diffuser largeme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Réactiver les commissions  d’attribution  et de suivi des Périmè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exploitation Forestières (PEF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Améliorer les recettes  en éradiquant la frau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Améliorer les conditions de vie des populations riveraines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1371600" indent="-137160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642960" y="0"/>
            <a:ext cx="8143920" cy="714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III- RESULTATS ATTEN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68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16520" indent="-131652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-Plan 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Faire migrer le secteur informel  vers le forme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Structurer le marché domestiqu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Renforcer le rôle de la Société civile et de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Chefferie traditionne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former l’industrie forestière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Mesures incitatives pour la modernisation des usines 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transformation plus poussée du b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Mise en œuvre d’un Programme National de Reboisemen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Renforcer les reboisements compensato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Renforcer le dispositif de suivi et contrôle des reboise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ensatoires pour garantir  leur pérenn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Associer tous les acteurs nationaux  au reboisement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 Collectivités et les privés dans le cadre  d’un partenari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ivé/Public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constitution du couvert  forestie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16520" indent="-13165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300" spc="-1" strike="noStrike">
                <a:solidFill>
                  <a:srgbClr val="000000"/>
                </a:solidFill>
                <a:latin typeface="Arial Black"/>
                <a:ea typeface="Arial"/>
              </a:rPr>
              <a:t>III- RESULTATS ATTEND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-Plan Inter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Ne pas demeurer en marge de la mondialisation et de la légalité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solider, voire améliorer, la position de la Cote d’ivoire sur le Marché d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Améliorer nos relations avec les partenaires au développement et 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illeurs de fon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300" spc="-1" strike="noStrike">
                <a:solidFill>
                  <a:srgbClr val="000000"/>
                </a:solidFill>
                <a:latin typeface="Arial Black"/>
                <a:ea typeface="Arial"/>
              </a:rPr>
              <a:t>III- RESULTATS ATTEND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57120" y="1143000"/>
            <a:ext cx="8786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de conscience de l’état de la  forêt et des réformes à entreprendre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réciation de la portée du processus FLEGT et des enjeux de l’APV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dhésion libre et volontaire au FLE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isposée à mener à bon terme les négociations qui ont démarr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C:\Users\CHEICK\Desktop\BE\images foret\Nouvelle image (34).png"/>
          <p:cNvPicPr/>
          <p:nvPr/>
        </p:nvPicPr>
        <p:blipFill>
          <a:blip r:embed="rId1"/>
          <a:stretch/>
        </p:blipFill>
        <p:spPr>
          <a:xfrm>
            <a:off x="5857920" y="4143240"/>
            <a:ext cx="2571840" cy="2044800"/>
          </a:xfrm>
          <a:prstGeom prst="rect">
            <a:avLst/>
          </a:prstGeom>
          <a:ln w="0">
            <a:noFill/>
          </a:ln>
        </p:spPr>
      </p:pic>
      <p:pic>
        <p:nvPicPr>
          <p:cNvPr id="94" name="Image 14" descr="F:\Images foret\011072011155736000000bois.jpg"/>
          <p:cNvPicPr/>
          <p:nvPr/>
        </p:nvPicPr>
        <p:blipFill>
          <a:blip r:embed="rId2"/>
          <a:stretch/>
        </p:blipFill>
        <p:spPr>
          <a:xfrm>
            <a:off x="785880" y="4071960"/>
            <a:ext cx="2768400" cy="203688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5"/>
          <p:cNvSpPr/>
          <p:nvPr/>
        </p:nvSpPr>
        <p:spPr>
          <a:xfrm>
            <a:off x="1285920" y="33577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RCI POUR VOTRE  AIMABLE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300" spc="-1" strike="noStrike">
                <a:solidFill>
                  <a:srgbClr val="000000"/>
                </a:solidFill>
                <a:latin typeface="Arial Black"/>
                <a:ea typeface="Arial"/>
              </a:rPr>
              <a:t>IV- CONCLU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136000" cy="403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erlin Sans FB"/>
              </a:rPr>
              <a:t>I- 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erlin Sans FB"/>
              </a:rPr>
              <a:t>II- EVOLUTION DU PROCESSUS FLEGT EN 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erlin Sans FB"/>
              </a:rPr>
              <a:t>III- RESULTATS ATTEND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erlin Sans FB"/>
              </a:rPr>
              <a:t>IV-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571680" y="357120"/>
            <a:ext cx="8072280" cy="6429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300" spc="-1" strike="noStrike">
                <a:solidFill>
                  <a:srgbClr val="000000"/>
                </a:solidFill>
                <a:latin typeface="Arial Black"/>
                <a:ea typeface="Arial"/>
              </a:rPr>
              <a:t>PLAN DE </a:t>
            </a:r>
            <a:r>
              <a:rPr b="1" lang="fr-FR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571680" y="142920"/>
            <a:ext cx="8072280" cy="4287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3840" y="292896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secteur des produits forestiers 1 à 2% produit intérieur brut mondial, 3% commerce international des marchandises (FAO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mmerce mondial du bois  150 milliards de§US/an, hors charbon de bois, bois de chauffe et pate à papier (CIDT, UK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secteur filière-bois source de pratiques illégales: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nterpol et le PNUD « Carbone vert, marché noir » de 09/2012 estiment de 30 à 100 milliards de dollars US/an, les revenus du crime organisé (mafia du bois) tirés du secteur forestier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5892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mmission U.E. (années 2000-2010) de 20 % à 40 % du bois tropical vendu dans le monde provenait de coupes illég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6" descr="https://encrypted-tbn0.gstatic.com/images?q=tbn:ANd9GcRAGX3myCr92oupQUqwquWL5nNOCAjA3lD3a3bNdtO5gvPzHY8a"/>
          <p:cNvPicPr/>
          <p:nvPr/>
        </p:nvPicPr>
        <p:blipFill>
          <a:blip r:embed="rId1"/>
          <a:stretch/>
        </p:blipFill>
        <p:spPr>
          <a:xfrm>
            <a:off x="6357960" y="71424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Image 8" descr="https://encrypted-tbn3.gstatic.com/images?q=tbn:ANd9GcRQ2_yXPdc-DFauO1jirawhuBWpxNbVqvc8Mkdpk56MoqQ7XjXEEA"/>
          <p:cNvPicPr/>
          <p:nvPr/>
        </p:nvPicPr>
        <p:blipFill>
          <a:blip r:embed="rId2"/>
          <a:stretch/>
        </p:blipFill>
        <p:spPr>
          <a:xfrm>
            <a:off x="1428840" y="714240"/>
            <a:ext cx="2928960" cy="200052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8"/>
          <p:cNvSpPr/>
          <p:nvPr/>
        </p:nvSpPr>
        <p:spPr>
          <a:xfrm>
            <a:off x="4643280" y="1785960"/>
            <a:ext cx="1214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Bois et produits bo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642960" y="214200"/>
            <a:ext cx="8072280" cy="4287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040" y="107172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loitation illég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« On parle d'exploitation illégale des bois lorsque le bois est récolté, transformé ou commercialisé en violation des lois nationales applicables dans le pays où le bois est récolté » (Commission 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ée par le non respect des réglementations dont se sont dotées les pays producteurs et exportateurs de bo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séquences nombreuses et diver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orestation et perte de biodiversité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entuation du réchauffement climatiqu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te de recettes pour les Eta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auvrissement des communautés locale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 ’Agriculture, pilier principal de l’économie ivoirienne , en constante extension, Contribue significativement à  la réduction du couvert forestier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e à cette  dégradation rapide de la forêt et vu l’importance de l’agriculture pour le développement du Pays, le gouvernement a défini une politique de gestion de la ressource , on peut citer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Programmes quinquennaux de dévelopement Forestiers de 1960 à 198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-Elaboration du Plan Directeur Forestier 1988-2015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 faut retenir que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la crise socio-polit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’a connue le Pays de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2002 à 2011 ,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a favorisé très sensiblement l’exploitation illégale du bois , avec une occupation anarchique de certaines forêts classées et egalement du domaine rural , accentuant ainsi la dégradation  du couvert forestier (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Exploitation non contrôlé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plosion ces dernières années des cultures de rente (hévéa, palmier à huile, etc ) , dans le domaine rural ,fragilise aussi le couvert forestier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utter contre l’exploitation illégale du bois, qui met en péril notre planète, on assistera à traver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le monde, à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multiples réaction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1320" y="3286080"/>
            <a:ext cx="8001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nonciation des activités d’exploitation illégale du boi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tion à la sensibilisation  contre ce fléa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Engagement des organis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998, prise de position du G8 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sures pour combattre l’exploit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lég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001, la Banque Mondiale encourage les processus régionaux FLE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003, position de l’Union Europée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8" descr="http://bp3.blogger.com/_Be5EvAsQf5k/RxHd4SC7sQI/AAAAAAAAD_Q/g2BQZF1jZkQ/s400/ScreenShot001.jpg"/>
          <p:cNvPicPr/>
          <p:nvPr/>
        </p:nvPicPr>
        <p:blipFill>
          <a:blip r:embed="rId1"/>
          <a:stretch/>
        </p:blipFill>
        <p:spPr>
          <a:xfrm>
            <a:off x="5572080" y="785880"/>
            <a:ext cx="264312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itre 1"/>
          <p:cNvSpPr/>
          <p:nvPr/>
        </p:nvSpPr>
        <p:spPr>
          <a:xfrm>
            <a:off x="571680" y="142920"/>
            <a:ext cx="8072280" cy="4287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7"/>
          <p:cNvSpPr/>
          <p:nvPr/>
        </p:nvSpPr>
        <p:spPr>
          <a:xfrm>
            <a:off x="571680" y="8571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 Ré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7"/>
          <p:cNvSpPr/>
          <p:nvPr/>
        </p:nvSpPr>
        <p:spPr>
          <a:xfrm>
            <a:off x="357120" y="1500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ngagement des ONG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9"/>
          <p:cNvSpPr/>
          <p:nvPr/>
        </p:nvSpPr>
        <p:spPr>
          <a:xfrm>
            <a:off x="714240" y="2071800"/>
            <a:ext cx="4929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vironmental Invesigation Agen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mis de la Ter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eenpeac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bilisés po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2960" y="99972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. Processus FLEG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ai 2003, publication par l’UE du 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n d’action FLEG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Forest Law Enforcement, Governance and Trade/ Application des Règlementations Forestières, Gouvernance et Echanges Commerciaux)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qui es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emière étape de lutte contre le problème urgent de l’exploitation illégale des forêts et du commerce qui y est associé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cessus soutenu pour renforcer la coopération multilatérale: mesures complémentaires orientées vers la demande et destinées à réduire la consommation de bois récolté illégalem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tion à réaliser l’objectif d’une gestion durable des forêts dans les pays producteurs de bo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571680" y="142920"/>
            <a:ext cx="8072280" cy="4287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Autres initiatives similair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acey act amendé en 2008 par le congrès américain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oi sur les forêts en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uisse, en vigueur depuis 20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oi australienne (Illegal Logging Prohibition Bill), de lut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e l’importation illégale du bois adopté en 201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uvelle Zélande, Japon, etc. sont engagés dans 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cessus similai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571680" y="142920"/>
            <a:ext cx="8072280" cy="5000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e à la dégradation massive de son couvert forestier , la côte d’Ivoire  consciente  du danger,  a pris très rapidement  des dispositions réglementaires pour y remédier , malgré celles-ci , l’exploitation forestière illégale et le commerce qui lui est associé persiste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prendre en compte les nouveaux enjeux en matière de  gestion forestière et du commerce du bois , l’Etat a engagé la révision de son code forestier  pour l’adapter au contexte  nouveau  ( en cours de validation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quoi 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la Côte d’Ivoir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op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our l’APV Flegt 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vec plus de 70 usines de transformation,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la Côte d’Ivoir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orte plus de 70% de  son bois usiné vers le Marche de  l’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BUE (règlement bois de l’UE)   voté en 2010  ,était un signal fort pour la 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 en vigueur  depuis le 3 Mars 2013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I- 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0:03:20Z</dcterms:created>
  <dc:creator>Meite</dc:creator>
  <dc:description/>
  <dc:language>en-US</dc:language>
  <cp:lastModifiedBy>Ben Sallah</cp:lastModifiedBy>
  <dcterms:modified xsi:type="dcterms:W3CDTF">2013-11-27T09:28:57Z</dcterms:modified>
  <cp:revision>423</cp:revision>
  <dc:subject/>
  <dc:title>Diapositive 1</dc:title>
</cp:coreProperties>
</file>