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9D9A-9E81-44A3-BC42-5C1E2F115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0FBF-0A5E-4903-8EEE-6CC42C7A8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031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8E6B-A908-409C-935F-AC5A60E7B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36a3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Réponse conjointe pays producteurs et consomma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6a3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Mesures combinées offre et demand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6a3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ilise la force et l’intérêt du marché européen pour soutenir les efforts des pays producteurs en matière de gouvernance, de réglementation et de 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6a3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processus multi-acteurs et un ensemble de mes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31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D812-FFB5-4B46-AF80-D6B896BC6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031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AC8E-97D5-4751-98CA-17DB45751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26F2-8B2B-41E1-AF55-58AEEE5F0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03D9-F622-4B8A-835B-4F5C87EB1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a Cellule FLEGT régional / CEEAC a lancé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puis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août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un projet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avec le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oncours de ETTF pour une durée de 15 mois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en faveur d’une meilleure connaissance des PME du secteur forestier de la région pour 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dentifier leurs difficultés spécifiques à la mise en œuvre des AP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dentifier leurs difficultés spécifiques aux exigences du RBU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poser un programme adapté de renforcement des capacités des PME et d’appui à leur organis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N.B.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 :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TIBT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est associé à ce projet en tant que structure ressource à l’é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ravail de terrain est terminé depuis le 20 novembre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et le rapport final est attendu pour la fin de l’année. Les 1</a:t>
            </a:r>
            <a:r>
              <a:rPr b="0" lang="fr-FR" sz="1000" spc="-1" strike="noStrike" baseline="30000">
                <a:solidFill>
                  <a:srgbClr val="000000"/>
                </a:solidFill>
                <a:latin typeface="Arial"/>
              </a:rPr>
              <a:t>ers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résultats indiquent 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es difficultés similaires aux grandes entreprises en matière de suivi et de mise en œuvre de la légalité et traçabili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es difficultés spécifiques liées 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À la gestion du personnel et des aspects soci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À l’accès aux banques pour financer leurs activités et invest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e projet prévoit de mettre en place un programme de renforcement des capacités au cours du 1</a:t>
            </a:r>
            <a:r>
              <a:rPr b="0" lang="fr-FR" sz="10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trimestre 2014 en incitant les PME au niveau national à s’organiser professionnelle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9A45-3620-4F5A-8D94-2D3B1AA67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hyperlink" Target="http://www.euflegt.efi.int/" TargetMode="External"/><Relationship Id="rId4" Type="http://schemas.openxmlformats.org/officeDocument/2006/relationships/hyperlink" Target="http://ec.europa.eu/development/policies/9interventionareas/environment/forest/flegt_en.cfm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0" name="AutoShape 12"/>
          <p:cNvCxnSpPr/>
          <p:nvPr/>
        </p:nvCxnSpPr>
        <p:spPr>
          <a:xfrm>
            <a:off x="380880" y="6171840"/>
            <a:ext cx="838260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</a:ln>
        </p:spPr>
      </p:cxnSp>
      <p:pic>
        <p:nvPicPr>
          <p:cNvPr id="1" name="Picture 13" descr="2909_EFI_Powerpoint_back_base2b"/>
          <p:cNvPicPr/>
          <p:nvPr/>
        </p:nvPicPr>
        <p:blipFill>
          <a:blip r:embed="rId2"/>
          <a:stretch/>
        </p:blipFill>
        <p:spPr>
          <a:xfrm>
            <a:off x="8066160" y="6248520"/>
            <a:ext cx="107784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0" descr="2909_EFI_Powerpoint_back_base2b"/>
          <p:cNvPicPr/>
          <p:nvPr/>
        </p:nvPicPr>
        <p:blipFill>
          <a:blip r:embed="rId2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39" name="Text Box 11"/>
          <p:cNvSpPr/>
          <p:nvPr/>
        </p:nvSpPr>
        <p:spPr>
          <a:xfrm>
            <a:off x="304920" y="6248520"/>
            <a:ext cx="670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6666"/>
                </a:solidFill>
                <a:uFillTx/>
                <a:latin typeface="Arial"/>
                <a:hlinkClick r:id="rId3"/>
              </a:rPr>
              <a:t>http://www.euflegt.efi.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6666"/>
                </a:solidFill>
                <a:uFillTx/>
                <a:latin typeface="Arial"/>
                <a:hlinkClick r:id="rId4"/>
              </a:rPr>
              <a:t>http://ec.europa.eu/development/policies/9interventionareas/environment/forest/flegt_en.cf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2909_EFI_Powerpoint_back_base2b"/>
          <p:cNvPicPr/>
          <p:nvPr/>
        </p:nvPicPr>
        <p:blipFill>
          <a:blip r:embed="rId2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1" descr="2909_EFI_Powerpoint_background2a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LEGT/VPA and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ME/CF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86920" y="3141720"/>
            <a:ext cx="6905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AG Event – Libreville, 26 Nove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nard Crabb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Com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6"/>
          <p:cNvSpPr/>
          <p:nvPr/>
        </p:nvSpPr>
        <p:spPr>
          <a:xfrm>
            <a:off x="233280" y="1882800"/>
            <a:ext cx="8642520" cy="45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The EU Action Plan on Forest Law Enforcement Governance and Trade adopted in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U’s response to illegal logging and the associated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Ration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6a3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ing illegal logging and its negative impacts on forests, local people, the economy, the rule of la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6a3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responsibility of producers and consumers: EU is part of the problem and thus … th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Objective: fight illegal logging, promote better forest governance and law enforcement and ultimately sustainable forest management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eyond projects: unique blend of demand and supply side measures; trade, governance and development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79280" y="1444680"/>
            <a:ext cx="8915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What is FLEGT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2909_EFI_Powerpoint_background2b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50920" y="2924280"/>
            <a:ext cx="7993080" cy="33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36a3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23232"/>
                </a:solidFill>
                <a:latin typeface="Arial"/>
              </a:rPr>
              <a:t>A bilateral trade </a:t>
            </a:r>
            <a:r>
              <a:rPr b="1" lang="fr-FR" sz="2800" spc="-1" strike="noStrike">
                <a:solidFill>
                  <a:srgbClr val="00b050"/>
                </a:solidFill>
                <a:latin typeface="Arial"/>
              </a:rPr>
              <a:t>agreement</a:t>
            </a:r>
            <a:r>
              <a:rPr b="0" lang="fr-FR" sz="2800" spc="-1" strike="noStrike">
                <a:solidFill>
                  <a:srgbClr val="323232"/>
                </a:solidFill>
                <a:latin typeface="Arial"/>
              </a:rPr>
              <a:t> between the EU and a produc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36a3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"/>
              </a:rPr>
              <a:t>Voluntary</a:t>
            </a:r>
            <a:r>
              <a:rPr b="0" lang="fr-FR" sz="2800" spc="-1" strike="noStrike">
                <a:solidFill>
                  <a:srgbClr val="323232"/>
                </a:solidFill>
                <a:latin typeface="Arial"/>
              </a:rPr>
              <a:t>: an informed country choic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23232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323232"/>
                </a:solidFill>
                <a:latin typeface="Arial"/>
              </a:rPr>
              <a:t>… </a:t>
            </a:r>
            <a:r>
              <a:rPr b="0" lang="fr-FR" sz="2800" spc="-1" strike="noStrike">
                <a:solidFill>
                  <a:srgbClr val="323232"/>
                </a:solidFill>
                <a:latin typeface="Arial"/>
              </a:rPr>
              <a:t>to enter into a legally binding trea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36a3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23232"/>
                </a:solidFill>
                <a:latin typeface="Arial"/>
              </a:rPr>
              <a:t>A </a:t>
            </a:r>
            <a:r>
              <a:rPr b="1" lang="fr-FR" sz="2800" spc="-1" strike="noStrike">
                <a:solidFill>
                  <a:srgbClr val="00b050"/>
                </a:solidFill>
                <a:latin typeface="Arial"/>
              </a:rPr>
              <a:t>partnership</a:t>
            </a:r>
            <a:r>
              <a:rPr b="0" lang="fr-FR" sz="2800" spc="-1" strike="noStrike">
                <a:solidFill>
                  <a:srgbClr val="323232"/>
                </a:solidFill>
                <a:latin typeface="Arial"/>
              </a:rPr>
              <a:t>: working together to fight illegal logging and the related trade, improve forest governance and law e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28600" y="1600200"/>
            <a:ext cx="8736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353"/>
                </a:solidFill>
                <a:latin typeface="Arial"/>
              </a:rPr>
              <a:t>What is a Voluntary Partnership Agreement? (V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9" descr="C:\Users\baziljo\AppData\Local\Microsoft\Windows\Temporary Internet Files\Content.Outlook\HYSHADLW\FLEGTmapJuly2013.png"/>
          <p:cNvPicPr/>
          <p:nvPr/>
        </p:nvPicPr>
        <p:blipFill>
          <a:blip r:embed="rId1"/>
          <a:stretch/>
        </p:blipFill>
        <p:spPr>
          <a:xfrm>
            <a:off x="0" y="1512720"/>
            <a:ext cx="9144000" cy="3870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108000" y="115920"/>
            <a:ext cx="287280" cy="2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08000" y="979560"/>
            <a:ext cx="2872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95280" y="115920"/>
            <a:ext cx="3672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GT licenses (not y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ing into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, in-country consensus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08000" y="331920"/>
            <a:ext cx="287280" cy="21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08000" y="763560"/>
            <a:ext cx="2872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08000" y="547560"/>
            <a:ext cx="28728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1"/>
          <p:cNvGrpSpPr/>
          <p:nvPr/>
        </p:nvGrpSpPr>
        <p:grpSpPr>
          <a:xfrm>
            <a:off x="4500720" y="3787920"/>
            <a:ext cx="862920" cy="1657440"/>
            <a:chOff x="4500720" y="3787920"/>
            <a:chExt cx="862920" cy="1657440"/>
          </a:xfrm>
        </p:grpSpPr>
        <p:pic>
          <p:nvPicPr>
            <p:cNvPr id="137" name="Picture 12" descr="congo-flag"/>
            <p:cNvPicPr/>
            <p:nvPr/>
          </p:nvPicPr>
          <p:blipFill>
            <a:blip r:embed="rId2"/>
            <a:stretch/>
          </p:blipFill>
          <p:spPr>
            <a:xfrm>
              <a:off x="4787640" y="4867200"/>
              <a:ext cx="576000" cy="37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3"/>
            <p:cNvSpPr/>
            <p:nvPr/>
          </p:nvSpPr>
          <p:spPr>
            <a:xfrm>
              <a:off x="4809600" y="51991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"/>
            <p:cNvSpPr/>
            <p:nvPr/>
          </p:nvSpPr>
          <p:spPr>
            <a:xfrm flipH="1" flipV="1">
              <a:off x="4500720" y="3787920"/>
              <a:ext cx="35856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5"/>
          <p:cNvGrpSpPr/>
          <p:nvPr/>
        </p:nvGrpSpPr>
        <p:grpSpPr>
          <a:xfrm>
            <a:off x="4572000" y="3616200"/>
            <a:ext cx="1655280" cy="1901880"/>
            <a:chOff x="4572000" y="3616200"/>
            <a:chExt cx="1655280" cy="1901880"/>
          </a:xfrm>
        </p:grpSpPr>
        <p:grpSp>
          <p:nvGrpSpPr>
            <p:cNvPr id="141" name="Group 16"/>
            <p:cNvGrpSpPr/>
            <p:nvPr/>
          </p:nvGrpSpPr>
          <p:grpSpPr>
            <a:xfrm>
              <a:off x="5651280" y="4911480"/>
              <a:ext cx="576000" cy="606600"/>
              <a:chOff x="5651280" y="4911480"/>
              <a:chExt cx="576000" cy="606600"/>
            </a:xfrm>
          </p:grpSpPr>
          <p:sp>
            <p:nvSpPr>
              <p:cNvPr id="142" name="Text Box 17"/>
              <p:cNvSpPr/>
              <p:nvPr/>
            </p:nvSpPr>
            <p:spPr>
              <a:xfrm>
                <a:off x="5672160" y="527184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.A.R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3" name="Picture 18" descr="central-africa"/>
              <p:cNvPicPr/>
              <p:nvPr/>
            </p:nvPicPr>
            <p:blipFill>
              <a:blip r:embed="rId3"/>
              <a:stretch/>
            </p:blipFill>
            <p:spPr>
              <a:xfrm>
                <a:off x="5651280" y="4911480"/>
                <a:ext cx="57600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Line 19"/>
            <p:cNvSpPr/>
            <p:nvPr/>
          </p:nvSpPr>
          <p:spPr>
            <a:xfrm flipH="1" flipV="1">
              <a:off x="4572000" y="3616200"/>
              <a:ext cx="13680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69"/>
          <p:cNvGrpSpPr/>
          <p:nvPr/>
        </p:nvGrpSpPr>
        <p:grpSpPr>
          <a:xfrm>
            <a:off x="6804000" y="3357720"/>
            <a:ext cx="1800000" cy="533160"/>
            <a:chOff x="6804000" y="3357720"/>
            <a:chExt cx="1800000" cy="533160"/>
          </a:xfrm>
        </p:grpSpPr>
        <p:grpSp>
          <p:nvGrpSpPr>
            <p:cNvPr id="146" name="Group 21"/>
            <p:cNvGrpSpPr/>
            <p:nvPr/>
          </p:nvGrpSpPr>
          <p:grpSpPr>
            <a:xfrm>
              <a:off x="7920000" y="3357720"/>
              <a:ext cx="684000" cy="533160"/>
              <a:chOff x="7920000" y="3357720"/>
              <a:chExt cx="684000" cy="533160"/>
            </a:xfrm>
          </p:grpSpPr>
          <p:sp>
            <p:nvSpPr>
              <p:cNvPr id="147" name="Text Box 22"/>
              <p:cNvSpPr/>
              <p:nvPr/>
            </p:nvSpPr>
            <p:spPr>
              <a:xfrm>
                <a:off x="7920000" y="3644640"/>
                <a:ext cx="684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alay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Picture 23" descr="malaysia"/>
              <p:cNvPicPr/>
              <p:nvPr/>
            </p:nvPicPr>
            <p:blipFill>
              <a:blip r:embed="rId4"/>
              <a:stretch/>
            </p:blipFill>
            <p:spPr>
              <a:xfrm>
                <a:off x="7955280" y="3357720"/>
                <a:ext cx="582840" cy="32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Line 24"/>
            <p:cNvSpPr/>
            <p:nvPr/>
          </p:nvSpPr>
          <p:spPr>
            <a:xfrm flipH="1">
              <a:off x="6804000" y="3573360"/>
              <a:ext cx="107928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70"/>
          <p:cNvGrpSpPr/>
          <p:nvPr/>
        </p:nvGrpSpPr>
        <p:grpSpPr>
          <a:xfrm>
            <a:off x="6948360" y="3933360"/>
            <a:ext cx="1510920" cy="1153080"/>
            <a:chOff x="6948360" y="3933360"/>
            <a:chExt cx="1510920" cy="1153080"/>
          </a:xfrm>
        </p:grpSpPr>
        <p:grpSp>
          <p:nvGrpSpPr>
            <p:cNvPr id="151" name="Group 26"/>
            <p:cNvGrpSpPr/>
            <p:nvPr/>
          </p:nvGrpSpPr>
          <p:grpSpPr>
            <a:xfrm>
              <a:off x="7730640" y="4479840"/>
              <a:ext cx="728640" cy="606600"/>
              <a:chOff x="7730640" y="4479840"/>
              <a:chExt cx="728640" cy="606600"/>
            </a:xfrm>
          </p:grpSpPr>
          <p:sp>
            <p:nvSpPr>
              <p:cNvPr id="152" name="Text Box 27"/>
              <p:cNvSpPr/>
              <p:nvPr/>
            </p:nvSpPr>
            <p:spPr>
              <a:xfrm>
                <a:off x="7730640" y="484020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done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28" descr="indonesia"/>
              <p:cNvPicPr/>
              <p:nvPr/>
            </p:nvPicPr>
            <p:blipFill>
              <a:blip r:embed="rId5"/>
              <a:stretch/>
            </p:blipFill>
            <p:spPr>
              <a:xfrm>
                <a:off x="7800840" y="4479840"/>
                <a:ext cx="658440" cy="384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54" name="Line 29"/>
            <p:cNvSpPr/>
            <p:nvPr/>
          </p:nvSpPr>
          <p:spPr>
            <a:xfrm flipH="1" flipV="1">
              <a:off x="6948360" y="3933360"/>
              <a:ext cx="852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0"/>
          <p:cNvGrpSpPr/>
          <p:nvPr/>
        </p:nvGrpSpPr>
        <p:grpSpPr>
          <a:xfrm>
            <a:off x="3134160" y="3689280"/>
            <a:ext cx="1221840" cy="1900080"/>
            <a:chOff x="3134160" y="3689280"/>
            <a:chExt cx="1221840" cy="1900080"/>
          </a:xfrm>
        </p:grpSpPr>
        <p:grpSp>
          <p:nvGrpSpPr>
            <p:cNvPr id="156" name="Group 31"/>
            <p:cNvGrpSpPr/>
            <p:nvPr/>
          </p:nvGrpSpPr>
          <p:grpSpPr>
            <a:xfrm>
              <a:off x="3134160" y="4984560"/>
              <a:ext cx="770400" cy="604800"/>
              <a:chOff x="3134160" y="4984560"/>
              <a:chExt cx="770400" cy="604800"/>
            </a:xfrm>
          </p:grpSpPr>
          <p:pic>
            <p:nvPicPr>
              <p:cNvPr id="157" name="Picture 32" descr="cameroon-flag"/>
              <p:cNvPicPr/>
              <p:nvPr/>
            </p:nvPicPr>
            <p:blipFill>
              <a:blip r:embed="rId6"/>
              <a:stretch/>
            </p:blipFill>
            <p:spPr>
              <a:xfrm>
                <a:off x="3276720" y="4984560"/>
                <a:ext cx="57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Text Box 33"/>
              <p:cNvSpPr/>
              <p:nvPr/>
            </p:nvSpPr>
            <p:spPr>
              <a:xfrm>
                <a:off x="3134160" y="5343120"/>
                <a:ext cx="77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amero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Line 34"/>
            <p:cNvSpPr/>
            <p:nvPr/>
          </p:nvSpPr>
          <p:spPr>
            <a:xfrm flipV="1">
              <a:off x="3490560" y="3689280"/>
              <a:ext cx="865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5"/>
          <p:cNvGrpSpPr/>
          <p:nvPr/>
        </p:nvGrpSpPr>
        <p:grpSpPr>
          <a:xfrm>
            <a:off x="468360" y="3573360"/>
            <a:ext cx="3611160" cy="2481480"/>
            <a:chOff x="468360" y="3573360"/>
            <a:chExt cx="3611160" cy="2481480"/>
          </a:xfrm>
        </p:grpSpPr>
        <p:grpSp>
          <p:nvGrpSpPr>
            <p:cNvPr id="161" name="Group 36"/>
            <p:cNvGrpSpPr/>
            <p:nvPr/>
          </p:nvGrpSpPr>
          <p:grpSpPr>
            <a:xfrm>
              <a:off x="468360" y="5443200"/>
              <a:ext cx="564840" cy="611640"/>
              <a:chOff x="468360" y="5443200"/>
              <a:chExt cx="564840" cy="611640"/>
            </a:xfrm>
          </p:grpSpPr>
          <p:pic>
            <p:nvPicPr>
              <p:cNvPr id="162" name="Picture 37" descr="ghana-flag"/>
              <p:cNvPicPr/>
              <p:nvPr/>
            </p:nvPicPr>
            <p:blipFill>
              <a:blip r:embed="rId7"/>
              <a:stretch/>
            </p:blipFill>
            <p:spPr>
              <a:xfrm>
                <a:off x="468360" y="5443200"/>
                <a:ext cx="564840" cy="43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Text Box 38"/>
              <p:cNvSpPr/>
              <p:nvPr/>
            </p:nvSpPr>
            <p:spPr>
              <a:xfrm>
                <a:off x="469080" y="5808600"/>
                <a:ext cx="56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ha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39"/>
            <p:cNvSpPr/>
            <p:nvPr/>
          </p:nvSpPr>
          <p:spPr>
            <a:xfrm flipV="1">
              <a:off x="1044360" y="3573360"/>
              <a:ext cx="303516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40"/>
          <p:cNvGrpSpPr/>
          <p:nvPr/>
        </p:nvGrpSpPr>
        <p:grpSpPr>
          <a:xfrm>
            <a:off x="466560" y="3573360"/>
            <a:ext cx="3385800" cy="892440"/>
            <a:chOff x="466560" y="3573360"/>
            <a:chExt cx="3385800" cy="892440"/>
          </a:xfrm>
        </p:grpSpPr>
        <p:grpSp>
          <p:nvGrpSpPr>
            <p:cNvPr id="166" name="Group 41"/>
            <p:cNvGrpSpPr/>
            <p:nvPr/>
          </p:nvGrpSpPr>
          <p:grpSpPr>
            <a:xfrm>
              <a:off x="466560" y="3932280"/>
              <a:ext cx="564120" cy="533520"/>
              <a:chOff x="466560" y="3932280"/>
              <a:chExt cx="564120" cy="533520"/>
            </a:xfrm>
          </p:grpSpPr>
          <p:sp>
            <p:nvSpPr>
              <p:cNvPr id="167" name="Text Box 42"/>
              <p:cNvSpPr/>
              <p:nvPr/>
            </p:nvSpPr>
            <p:spPr>
              <a:xfrm>
                <a:off x="469080" y="421956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be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8" name="Picture 43" descr="liberia"/>
              <p:cNvPicPr/>
              <p:nvPr/>
            </p:nvPicPr>
            <p:blipFill>
              <a:blip r:embed="rId8"/>
              <a:stretch/>
            </p:blipFill>
            <p:spPr>
              <a:xfrm>
                <a:off x="466560" y="3932280"/>
                <a:ext cx="5641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" name="Line 44"/>
            <p:cNvSpPr/>
            <p:nvPr/>
          </p:nvSpPr>
          <p:spPr>
            <a:xfrm flipV="1">
              <a:off x="971640" y="3573360"/>
              <a:ext cx="2880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46"/>
          <p:cNvSpPr/>
          <p:nvPr/>
        </p:nvSpPr>
        <p:spPr>
          <a:xfrm>
            <a:off x="108000" y="1195560"/>
            <a:ext cx="28728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564000" y="44280"/>
            <a:ext cx="540072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VPA partn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September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60"/>
          <p:cNvGrpSpPr/>
          <p:nvPr/>
        </p:nvGrpSpPr>
        <p:grpSpPr>
          <a:xfrm>
            <a:off x="4068720" y="3789360"/>
            <a:ext cx="576000" cy="2305440"/>
            <a:chOff x="4068720" y="3789360"/>
            <a:chExt cx="576000" cy="2305440"/>
          </a:xfrm>
        </p:grpSpPr>
        <p:pic>
          <p:nvPicPr>
            <p:cNvPr id="173" name="Picture 49" descr="gabon-flag"/>
            <p:cNvPicPr/>
            <p:nvPr/>
          </p:nvPicPr>
          <p:blipFill>
            <a:blip r:embed="rId9"/>
            <a:stretch/>
          </p:blipFill>
          <p:spPr>
            <a:xfrm>
              <a:off x="4068720" y="5507280"/>
              <a:ext cx="576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50"/>
            <p:cNvSpPr/>
            <p:nvPr/>
          </p:nvSpPr>
          <p:spPr>
            <a:xfrm>
              <a:off x="4069440" y="58485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ab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51"/>
            <p:cNvSpPr/>
            <p:nvPr/>
          </p:nvSpPr>
          <p:spPr>
            <a:xfrm flipV="1">
              <a:off x="4284360" y="3789360"/>
              <a:ext cx="7164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59"/>
          <p:cNvGrpSpPr/>
          <p:nvPr/>
        </p:nvGrpSpPr>
        <p:grpSpPr>
          <a:xfrm>
            <a:off x="4716360" y="3831840"/>
            <a:ext cx="1403280" cy="2262600"/>
            <a:chOff x="4716360" y="3831840"/>
            <a:chExt cx="1403280" cy="2262600"/>
          </a:xfrm>
        </p:grpSpPr>
        <p:pic>
          <p:nvPicPr>
            <p:cNvPr id="177" name="Picture 52" descr="drc-flag"/>
            <p:cNvPicPr/>
            <p:nvPr/>
          </p:nvPicPr>
          <p:blipFill>
            <a:blip r:embed="rId10"/>
            <a:stretch/>
          </p:blipFill>
          <p:spPr>
            <a:xfrm>
              <a:off x="5580000" y="5487840"/>
              <a:ext cx="5396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53"/>
            <p:cNvSpPr/>
            <p:nvPr/>
          </p:nvSpPr>
          <p:spPr>
            <a:xfrm>
              <a:off x="5582520" y="58482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54"/>
            <p:cNvSpPr/>
            <p:nvPr/>
          </p:nvSpPr>
          <p:spPr>
            <a:xfrm flipH="1" flipV="1">
              <a:off x="4716360" y="3831840"/>
              <a:ext cx="107928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68"/>
          <p:cNvGrpSpPr/>
          <p:nvPr/>
        </p:nvGrpSpPr>
        <p:grpSpPr>
          <a:xfrm>
            <a:off x="6948000" y="2730600"/>
            <a:ext cx="1581480" cy="647640"/>
            <a:chOff x="6948000" y="2730600"/>
            <a:chExt cx="1581480" cy="647640"/>
          </a:xfrm>
        </p:grpSpPr>
        <p:grpSp>
          <p:nvGrpSpPr>
            <p:cNvPr id="181" name="Group 67"/>
            <p:cNvGrpSpPr/>
            <p:nvPr/>
          </p:nvGrpSpPr>
          <p:grpSpPr>
            <a:xfrm>
              <a:off x="6948000" y="2730600"/>
              <a:ext cx="1547280" cy="647640"/>
              <a:chOff x="6948000" y="2730600"/>
              <a:chExt cx="1547280" cy="647640"/>
            </a:xfrm>
          </p:grpSpPr>
          <p:pic>
            <p:nvPicPr>
              <p:cNvPr id="182" name="Picture 55" descr="vietnam"/>
              <p:cNvPicPr/>
              <p:nvPr/>
            </p:nvPicPr>
            <p:blipFill>
              <a:blip r:embed="rId11"/>
              <a:stretch/>
            </p:blipFill>
            <p:spPr>
              <a:xfrm>
                <a:off x="7918920" y="2730600"/>
                <a:ext cx="57636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Line 56"/>
              <p:cNvSpPr/>
              <p:nvPr/>
            </p:nvSpPr>
            <p:spPr>
              <a:xfrm flipH="1">
                <a:off x="6948000" y="2946600"/>
                <a:ext cx="93564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Text Box 57"/>
            <p:cNvSpPr/>
            <p:nvPr/>
          </p:nvSpPr>
          <p:spPr>
            <a:xfrm>
              <a:off x="7886880" y="3090960"/>
              <a:ext cx="64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ietn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6"/>
          <p:cNvGrpSpPr/>
          <p:nvPr/>
        </p:nvGrpSpPr>
        <p:grpSpPr>
          <a:xfrm>
            <a:off x="5435640" y="3357720"/>
            <a:ext cx="1297080" cy="950760"/>
            <a:chOff x="5435640" y="3357720"/>
            <a:chExt cx="1297080" cy="950760"/>
          </a:xfrm>
        </p:grpSpPr>
        <p:grpSp>
          <p:nvGrpSpPr>
            <p:cNvPr id="186" name="Group 2"/>
            <p:cNvGrpSpPr/>
            <p:nvPr/>
          </p:nvGrpSpPr>
          <p:grpSpPr>
            <a:xfrm>
              <a:off x="5435640" y="3717720"/>
              <a:ext cx="673920" cy="590760"/>
              <a:chOff x="5435640" y="3717720"/>
              <a:chExt cx="673920" cy="590760"/>
            </a:xfrm>
          </p:grpSpPr>
          <p:sp>
            <p:nvSpPr>
              <p:cNvPr id="187" name="Text Box 42"/>
              <p:cNvSpPr/>
              <p:nvPr/>
            </p:nvSpPr>
            <p:spPr>
              <a:xfrm>
                <a:off x="5435640" y="4062240"/>
                <a:ext cx="67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Thail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8" name="Picture 5" descr="C:\Users\brunejo\Desktop\untitled.bmp"/>
              <p:cNvPicPr/>
              <p:nvPr/>
            </p:nvPicPr>
            <p:blipFill>
              <a:blip r:embed="rId12"/>
              <a:stretch/>
            </p:blipFill>
            <p:spPr>
              <a:xfrm>
                <a:off x="5507640" y="3717720"/>
                <a:ext cx="504360" cy="41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9" name="Line 39"/>
            <p:cNvSpPr/>
            <p:nvPr/>
          </p:nvSpPr>
          <p:spPr>
            <a:xfrm flipV="1">
              <a:off x="6012000" y="3357720"/>
              <a:ext cx="72072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5"/>
          <p:cNvGrpSpPr/>
          <p:nvPr/>
        </p:nvGrpSpPr>
        <p:grpSpPr>
          <a:xfrm>
            <a:off x="254880" y="2565360"/>
            <a:ext cx="1507320" cy="774720"/>
            <a:chOff x="254880" y="2565360"/>
            <a:chExt cx="1507320" cy="774720"/>
          </a:xfrm>
        </p:grpSpPr>
        <p:grpSp>
          <p:nvGrpSpPr>
            <p:cNvPr id="191" name="Group 3"/>
            <p:cNvGrpSpPr/>
            <p:nvPr/>
          </p:nvGrpSpPr>
          <p:grpSpPr>
            <a:xfrm>
              <a:off x="254880" y="2565360"/>
              <a:ext cx="729360" cy="633960"/>
              <a:chOff x="254880" y="2565360"/>
              <a:chExt cx="729360" cy="633960"/>
            </a:xfrm>
          </p:grpSpPr>
          <p:pic>
            <p:nvPicPr>
              <p:cNvPr id="192" name="Picture 2" descr="C:\Users\brunejo\Desktop\honduras-flag.gif"/>
              <p:cNvPicPr/>
              <p:nvPr/>
            </p:nvPicPr>
            <p:blipFill>
              <a:blip r:embed="rId13"/>
              <a:stretch/>
            </p:blipFill>
            <p:spPr>
              <a:xfrm>
                <a:off x="340200" y="2565360"/>
                <a:ext cx="569160" cy="38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Text Box 42"/>
              <p:cNvSpPr/>
              <p:nvPr/>
            </p:nvSpPr>
            <p:spPr>
              <a:xfrm>
                <a:off x="254880" y="2953080"/>
                <a:ext cx="729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Hondu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39"/>
            <p:cNvSpPr/>
            <p:nvPr/>
          </p:nvSpPr>
          <p:spPr>
            <a:xfrm>
              <a:off x="879840" y="2759040"/>
              <a:ext cx="88236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7"/>
          <p:cNvGrpSpPr/>
          <p:nvPr/>
        </p:nvGrpSpPr>
        <p:grpSpPr>
          <a:xfrm>
            <a:off x="6814800" y="1866960"/>
            <a:ext cx="1752840" cy="1412640"/>
            <a:chOff x="6814800" y="1866960"/>
            <a:chExt cx="1752840" cy="1412640"/>
          </a:xfrm>
        </p:grpSpPr>
        <p:grpSp>
          <p:nvGrpSpPr>
            <p:cNvPr id="196" name="Group 4"/>
            <p:cNvGrpSpPr/>
            <p:nvPr/>
          </p:nvGrpSpPr>
          <p:grpSpPr>
            <a:xfrm>
              <a:off x="8025840" y="1866960"/>
              <a:ext cx="541800" cy="606600"/>
              <a:chOff x="8025840" y="1866960"/>
              <a:chExt cx="541800" cy="606600"/>
            </a:xfrm>
          </p:grpSpPr>
          <p:sp>
            <p:nvSpPr>
              <p:cNvPr id="197" name="Text Box 42"/>
              <p:cNvSpPr/>
              <p:nvPr/>
            </p:nvSpPr>
            <p:spPr>
              <a:xfrm>
                <a:off x="8060760" y="22273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a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" name="Picture 4" descr="C:\Users\brunejo\Desktop\imagesCA30RNUM.jpg"/>
              <p:cNvPicPr/>
              <p:nvPr/>
            </p:nvPicPr>
            <p:blipFill>
              <a:blip r:embed="rId14"/>
              <a:stretch/>
            </p:blipFill>
            <p:spPr>
              <a:xfrm>
                <a:off x="8025840" y="1866960"/>
                <a:ext cx="541800" cy="360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9" name="Line 39"/>
            <p:cNvSpPr/>
            <p:nvPr/>
          </p:nvSpPr>
          <p:spPr>
            <a:xfrm flipH="1">
              <a:off x="6814800" y="2112480"/>
              <a:ext cx="1210680" cy="11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"/>
          <p:cNvGrpSpPr/>
          <p:nvPr/>
        </p:nvGrpSpPr>
        <p:grpSpPr>
          <a:xfrm>
            <a:off x="325800" y="3644640"/>
            <a:ext cx="3598200" cy="1618560"/>
            <a:chOff x="325800" y="3644640"/>
            <a:chExt cx="3598200" cy="1618560"/>
          </a:xfrm>
        </p:grpSpPr>
        <p:grpSp>
          <p:nvGrpSpPr>
            <p:cNvPr id="201" name="Group 35"/>
            <p:cNvGrpSpPr/>
            <p:nvPr/>
          </p:nvGrpSpPr>
          <p:grpSpPr>
            <a:xfrm>
              <a:off x="325800" y="3644640"/>
              <a:ext cx="3598200" cy="1618560"/>
              <a:chOff x="325800" y="3644640"/>
              <a:chExt cx="3598200" cy="1618560"/>
            </a:xfrm>
          </p:grpSpPr>
          <p:sp>
            <p:nvSpPr>
              <p:cNvPr id="202" name="Text Box 38"/>
              <p:cNvSpPr/>
              <p:nvPr/>
            </p:nvSpPr>
            <p:spPr>
              <a:xfrm>
                <a:off x="325800" y="5016960"/>
                <a:ext cx="886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ote d'Ivoi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39"/>
              <p:cNvSpPr/>
              <p:nvPr/>
            </p:nvSpPr>
            <p:spPr>
              <a:xfrm flipV="1">
                <a:off x="1033560" y="3644640"/>
                <a:ext cx="2890440" cy="129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4" name="Picture 2" descr="http://wwp.greenwichmeantime.com/time-zone/africa/ivory-coast/images-ivory-coast/ivory-coast-flag.jpg"/>
            <p:cNvPicPr/>
            <p:nvPr/>
          </p:nvPicPr>
          <p:blipFill>
            <a:blip r:embed="rId15"/>
            <a:stretch/>
          </p:blipFill>
          <p:spPr>
            <a:xfrm>
              <a:off x="452520" y="4656960"/>
              <a:ext cx="57780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Group 89"/>
          <p:cNvGrpSpPr/>
          <p:nvPr/>
        </p:nvGrpSpPr>
        <p:grpSpPr>
          <a:xfrm>
            <a:off x="471240" y="3284640"/>
            <a:ext cx="2040120" cy="577800"/>
            <a:chOff x="471240" y="3284640"/>
            <a:chExt cx="2040120" cy="577800"/>
          </a:xfrm>
        </p:grpSpPr>
        <p:grpSp>
          <p:nvGrpSpPr>
            <p:cNvPr id="206" name="Group 90"/>
            <p:cNvGrpSpPr/>
            <p:nvPr/>
          </p:nvGrpSpPr>
          <p:grpSpPr>
            <a:xfrm>
              <a:off x="471240" y="3284640"/>
              <a:ext cx="624240" cy="577800"/>
              <a:chOff x="471240" y="3284640"/>
              <a:chExt cx="624240" cy="577800"/>
            </a:xfrm>
          </p:grpSpPr>
          <p:sp>
            <p:nvSpPr>
              <p:cNvPr id="207" name="Text Box 42"/>
              <p:cNvSpPr/>
              <p:nvPr/>
            </p:nvSpPr>
            <p:spPr>
              <a:xfrm>
                <a:off x="471240" y="3616200"/>
                <a:ext cx="62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uya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Picture 5" descr="C:\Users\brunejo\Desktop\untitled.bmp"/>
              <p:cNvPicPr/>
              <p:nvPr/>
            </p:nvPicPr>
            <p:blipFill>
              <a:blip r:embed="rId16"/>
              <a:stretch/>
            </p:blipFill>
            <p:spPr>
              <a:xfrm>
                <a:off x="499680" y="3284640"/>
                <a:ext cx="496440" cy="33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9" name="Line 39"/>
            <p:cNvSpPr/>
            <p:nvPr/>
          </p:nvSpPr>
          <p:spPr>
            <a:xfrm>
              <a:off x="993240" y="3452760"/>
              <a:ext cx="15181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50920" y="1557360"/>
            <a:ext cx="860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Voluntary Partnership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6"/>
          <p:cNvSpPr/>
          <p:nvPr/>
        </p:nvSpPr>
        <p:spPr>
          <a:xfrm>
            <a:off x="217440" y="2092320"/>
            <a:ext cx="863748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36a3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6600"/>
                </a:solidFill>
                <a:latin typeface="Arial"/>
              </a:rPr>
              <a:t>Trade</a:t>
            </a:r>
            <a:r>
              <a:rPr b="0" lang="fr-FR" sz="2200" spc="-1" strike="noStrike">
                <a:solidFill>
                  <a:srgbClr val="003300"/>
                </a:solidFill>
                <a:latin typeface="Arial"/>
              </a:rPr>
              <a:t> as entry point: the VPA uses the interest for the EU market to promote </a:t>
            </a:r>
            <a:r>
              <a:rPr b="0" lang="fr-FR" sz="2200" spc="-1" strike="noStrike">
                <a:solidFill>
                  <a:srgbClr val="006600"/>
                </a:solidFill>
                <a:latin typeface="Arial"/>
              </a:rPr>
              <a:t>better forest governance and law enforcement </a:t>
            </a:r>
            <a:r>
              <a:rPr b="0" lang="fr-FR" sz="2200" spc="-1" strike="noStrike">
                <a:solidFill>
                  <a:srgbClr val="003300"/>
                </a:solidFill>
                <a:latin typeface="Arial"/>
              </a:rPr>
              <a:t>in the partner count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36a3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Establishes a </a:t>
            </a: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FLEGT Licensing scheme </a:t>
            </a: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to ensure that timber exports to EU are of legally harvested ti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36a3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Producer country establishes a </a:t>
            </a: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legality assurance system</a:t>
            </a: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; EU commits to check licences and only allow entry of FLEGT licensed timber from partner countries once VPA fully opera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36a3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3300"/>
                </a:solidFill>
                <a:latin typeface="Arial"/>
              </a:rPr>
              <a:t>Based on the </a:t>
            </a:r>
            <a:r>
              <a:rPr b="0" lang="fr-FR" sz="2200" spc="-1" strike="noStrike">
                <a:solidFill>
                  <a:srgbClr val="006600"/>
                </a:solidFill>
                <a:latin typeface="Arial"/>
              </a:rPr>
              <a:t>law of the producer country </a:t>
            </a:r>
            <a:r>
              <a:rPr b="0" lang="fr-FR" sz="2200" spc="-1" strike="noStrike">
                <a:solidFill>
                  <a:srgbClr val="003300"/>
                </a:solidFill>
                <a:latin typeface="Arial"/>
              </a:rPr>
              <a:t>(does not impose external standar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36a3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Multi-stakeholder</a:t>
            </a: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FLEGT/VPA &amp; SMEs/CFEs</a:t>
            </a:r>
            <a:br>
              <a:rPr sz="3600"/>
            </a:br>
            <a:r>
              <a:rPr b="0" i="1" lang="fr-BE" sz="3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14839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ased on national consensus between stakeholders with different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 seat at the table!  VPA create a space for dialogue. Public administrations. Private sector (including SMEs), Civil society and Communities (during negotiation and imple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eyond FLEGT licensing for exports to the EU, ambition to apply to all stakeholders involved in forest exploitation… Levelling the playing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Obligations/requirements differ according to the type of operators and capa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larity and transparency: reducing ab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wareness about legality issues, community rights, and understanding of forest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FLEGT/VPA &amp; SMEs/CFEs </a:t>
            </a:r>
            <a:br>
              <a:rPr sz="4000"/>
            </a:br>
            <a:r>
              <a:rPr b="0" i="1" lang="fr-BE" sz="4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8360" y="16282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 huge undertaking (ambition – complex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 long-term process  … but a requirement for sustainable fores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No blueprint: different contexts, different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he cost of legality and its benefits (the cost of illeg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inging down these costs; simplifying procedures;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lding technical systems (SVL) accessible to different types of busin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rruption and vested inter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apacity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How the EU can ass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tudying policy and regulatory options for the integration of small domestic actors (CIFOR-PROF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AO-FLEGT Programme and EFI FLEGT Fac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gramme CEEAC-ETTF de renforcement des capacités des PMEs et d’appui à leurs organis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ong-term and patient engagement with partner countries an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istening to your experie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UNEVAL John (DEVCO)</dc:creator>
  <dc:description/>
  <dc:language>en-US</dc:language>
  <cp:lastModifiedBy>Admin</cp:lastModifiedBy>
  <cp:lastPrinted>2005-10-14T11:46:49Z</cp:lastPrinted>
  <dcterms:modified xsi:type="dcterms:W3CDTF">2005-10-14T11:46:56Z</dcterms:modified>
  <cp:revision>269</cp:revision>
  <dc:subject/>
  <dc:title>PowerPoint Presentation</dc:title>
</cp:coreProperties>
</file>