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Click to move the slide</a:t>
            </a: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347D-A217-45AA-AFE8-8E80307E346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D766-AFDB-4732-984C-8A26773FE94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ar sobre slkdjlj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96F-2D88-4AB6-BAF1-2675CB82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033-017A-400E-B759-67524FCF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E33-9D87-499D-A8CC-5D6E37F2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664-5692-423F-9352-30882ECD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054-F623-4E0F-8ED0-317D643A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429-9AF1-4928-BD71-2EE9A787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CBC-FE7D-468E-81EC-EF4D8F30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1C8C-3531-4D6B-8312-D8CF0CC5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6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A3C-A1CD-425C-BFF0-09DC5B73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7F3C-943F-499A-8121-7F6EC0DF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3C9-FE00-499D-974A-63F11963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90C-DFAC-425A-9E7E-E85C7797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0DA7-C07F-4DAA-8A3E-0A3AFC725DDD}" type="slidenum"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Conector reto 8"/>
          <p:cNvSpPr/>
          <p:nvPr/>
        </p:nvSpPr>
        <p:spPr>
          <a:xfrm>
            <a:off x="71280" y="857160"/>
            <a:ext cx="8929800" cy="180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447560"/>
            <a:ext cx="8686800" cy="11430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Project ITTO PD142/02 Rev.2 (F)</a:t>
            </a:r>
            <a:br>
              <a:rPr sz="1800"/>
            </a:b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Sustainable Production of National Forests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under the Forest Concession Regime</a:t>
            </a:r>
            <a:endParaRPr b="0" lang="en-US" sz="2000" spc="-1" strike="noStrike">
              <a:solidFill>
                <a:srgbClr val="3333cc"/>
              </a:solidFill>
              <a:latin typeface="Arial Narrow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6516720" y="6326280"/>
            <a:ext cx="1066680" cy="27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abc1"/>
          <p:cNvPicPr/>
          <p:nvPr/>
        </p:nvPicPr>
        <p:blipFill>
          <a:blip r:embed="rId2"/>
          <a:stretch/>
        </p:blipFill>
        <p:spPr>
          <a:xfrm>
            <a:off x="1116000" y="6021360"/>
            <a:ext cx="762120" cy="65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marcaSFB2"/>
          <p:cNvPicPr/>
          <p:nvPr/>
        </p:nvPicPr>
        <p:blipFill>
          <a:blip r:embed="rId3"/>
          <a:stretch/>
        </p:blipFill>
        <p:spPr>
          <a:xfrm>
            <a:off x="3564000" y="5857920"/>
            <a:ext cx="1297080" cy="88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"/>
          <p:cNvPicPr/>
          <p:nvPr/>
        </p:nvPicPr>
        <p:blipFill>
          <a:blip r:embed="rId4">
            <a:alphaModFix amt="50000"/>
          </a:blip>
          <a:stretch/>
        </p:blipFill>
        <p:spPr>
          <a:xfrm>
            <a:off x="179280" y="5950080"/>
            <a:ext cx="863640" cy="701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icmbio"/>
          <p:cNvPicPr/>
          <p:nvPr/>
        </p:nvPicPr>
        <p:blipFill>
          <a:blip r:embed="rId5"/>
          <a:stretch/>
        </p:blipFill>
        <p:spPr>
          <a:xfrm>
            <a:off x="1979640" y="6093000"/>
            <a:ext cx="1440000" cy="444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5"/>
          <p:cNvSpPr/>
          <p:nvPr/>
        </p:nvSpPr>
        <p:spPr>
          <a:xfrm>
            <a:off x="4859280" y="6227640"/>
            <a:ext cx="16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Verdana"/>
              </a:rPr>
              <a:t>Ministério 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Verdana"/>
              </a:rPr>
              <a:t>Relações Exteri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agem 1" descr=""/>
          <p:cNvPicPr/>
          <p:nvPr/>
        </p:nvPicPr>
        <p:blipFill>
          <a:blip r:embed="rId6"/>
          <a:stretch/>
        </p:blipFill>
        <p:spPr>
          <a:xfrm>
            <a:off x="7667640" y="6227640"/>
            <a:ext cx="1319040" cy="393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 Narrow"/>
              </a:rPr>
              <a:t>Project information</a:t>
            </a: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42920" y="1557360"/>
          <a:ext cx="7201080" cy="4852800"/>
        </p:xfrm>
        <a:graphic>
          <a:graphicData uri="http://schemas.openxmlformats.org/drawingml/2006/table">
            <a:tbl>
              <a:tblPr/>
              <a:tblGrid>
                <a:gridCol w="2335320"/>
                <a:gridCol w="4865760"/>
              </a:tblGrid>
              <a:tr h="7920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ject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stainable Production of National Forests under the Forest Concession Regime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4892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TO Number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D 142/02 Rev.2 (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plementing agency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zilian Forest Service of the Ministry of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ing da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il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pected durat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etion da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gust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9190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nancial resourc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$878,157.00 (ITTO) – Japan and U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$447,237.00 (BR Gov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$ 1,325,394.00 (Tot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Narrow"/>
              </a:rPr>
              <a:t>1 – Introduction: </a:t>
            </a:r>
            <a:r>
              <a:rPr b="1" lang="en-US" sz="1800" spc="-1" strike="noStrike">
                <a:solidFill>
                  <a:srgbClr val="00b050"/>
                </a:solidFill>
                <a:latin typeface="Arial Narrow"/>
              </a:rPr>
              <a:t>Project PD-142</a:t>
            </a:r>
            <a:endParaRPr b="0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14400" y="1447920"/>
            <a:ext cx="71629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ENERAL 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ontribute to increase timber production from sustainable management in native forests in the Brazilian Legal Amaz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14400" y="3352680"/>
            <a:ext cx="7162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IC 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make management plans, rules and procedures so as to start the concession regime for the sustainable production of timber in 3 National Forests in the Amazon.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 Narrow"/>
              </a:rPr>
              <a:t>National Forests (FLONA)</a:t>
            </a: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pic>
        <p:nvPicPr>
          <p:cNvPr id="62" name="Imagem 2" descr=""/>
          <p:cNvPicPr/>
          <p:nvPr/>
        </p:nvPicPr>
        <p:blipFill>
          <a:blip r:embed="rId1"/>
          <a:stretch/>
        </p:blipFill>
        <p:spPr>
          <a:xfrm>
            <a:off x="3924360" y="907920"/>
            <a:ext cx="4968720" cy="4464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7"/>
          <p:cNvSpPr/>
          <p:nvPr/>
        </p:nvSpPr>
        <p:spPr>
          <a:xfrm>
            <a:off x="250920" y="1085760"/>
            <a:ext cx="367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NA Itaituba I and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: Par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650,258 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NA Altam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: Par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764,154 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NA Caxiuan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: Par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322,413 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Total area: 1,736.825 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539640" y="5589720"/>
            <a:ext cx="813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FLONAS previewed initially at the beginning of the project we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mari, Tef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Caxiuan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However, for Jamari, IBAMA was granted with Dutch funds for making the Management Plan; in what concerns Tefe, the area was too distant from forest markets and also was considered a low pressure area (with low deforestation impact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0"/>
          <p:cNvSpPr/>
          <p:nvPr/>
        </p:nvSpPr>
        <p:spPr>
          <a:xfrm>
            <a:off x="108000" y="914400"/>
            <a:ext cx="8856720" cy="55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OUTCOME 1: Organization and structure for the implementation of the established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400" spc="-1" strike="noStrike">
                <a:solidFill>
                  <a:srgbClr val="009900"/>
                </a:solidFill>
                <a:latin typeface="Arial Narrow"/>
              </a:rPr>
              <a:t>Concluded with the staff of the Forest Service and partner institutions (ICMBio, IBAMA) (10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OUTCOME 2: Preliminary Forest Inventories in each FL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400" spc="-1" strike="noStrike">
                <a:solidFill>
                  <a:srgbClr val="009900"/>
                </a:solidFill>
                <a:latin typeface="Arial Narrow"/>
              </a:rPr>
              <a:t>Accomplished in all the FLONAS of the project (10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OUTCOME 3: Development of </a:t>
            </a: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socio-economic surve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400" spc="-1" strike="noStrike">
                <a:solidFill>
                  <a:srgbClr val="009900"/>
                </a:solidFill>
                <a:latin typeface="Arial Narrow"/>
              </a:rPr>
              <a:t>Accomplished in all the FLONAS of the project (10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OUTCOME 4: </a:t>
            </a: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Ecosystems identified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and stud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400" spc="-1" strike="noStrike">
                <a:solidFill>
                  <a:srgbClr val="009900"/>
                </a:solidFill>
                <a:latin typeface="Arial Narrow"/>
              </a:rPr>
              <a:t>Accomplished in all the FLONAS of the project , in progress in FLONAS Itaituba I 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OUTCOME 5: </a:t>
            </a: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Management plans develop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oning of the FLONAS: </a:t>
            </a:r>
            <a:r>
              <a:rPr b="1" i="1" lang="en-US" sz="1400" spc="-1" strike="noStrike">
                <a:solidFill>
                  <a:srgbClr val="009900"/>
                </a:solidFill>
                <a:latin typeface="Arial Narrow"/>
              </a:rPr>
              <a:t>Accomplished in all the FLONAS of the project , in progress in FLONAS Itaituba I &amp;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agement Plans prepared: </a:t>
            </a:r>
            <a:r>
              <a:rPr b="1" i="1" lang="en-US" sz="1400" spc="-1" strike="noStrike">
                <a:solidFill>
                  <a:srgbClr val="009900"/>
                </a:solidFill>
                <a:latin typeface="Arial Narrow"/>
              </a:rPr>
              <a:t>Accomplished in FLONA Altamira and FLONA Caxiuanã, in progress inFLONAS Itaituba I 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OUTCOME 6: Development of rules and procedures for the Conce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alysis of the economic viability of sustainable exploration in the FLO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228600">
              <a:lnSpc>
                <a:spcPct val="100000"/>
              </a:lnSpc>
              <a:buClr>
                <a:srgbClr val="009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00"/>
                </a:solidFill>
                <a:latin typeface="Arial Narrow"/>
              </a:rPr>
              <a:t>Accomplished in Altamira and Caxiuana, in progress in FLONAS Itaituba I 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velopment of rules and guidelines for public auctions for the sustainable exploration of            the FLO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228600">
              <a:lnSpc>
                <a:spcPct val="100000"/>
              </a:lnSpc>
              <a:buClr>
                <a:srgbClr val="009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00"/>
                </a:solidFill>
                <a:latin typeface="Arial Narrow"/>
              </a:rPr>
              <a:t>Accomplished  within the country (Law 11.284/2006 and derived regulations) (10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228600">
              <a:lnSpc>
                <a:spcPct val="100000"/>
              </a:lnSpc>
              <a:buClr>
                <a:srgbClr val="009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00"/>
                </a:solidFill>
                <a:latin typeface="Arial Narrow"/>
              </a:rPr>
              <a:t>Analysis of Law 11.284/2006: accomplished and aiming the implementation in the Amaz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vertising the results of the projec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228600">
              <a:lnSpc>
                <a:spcPct val="100000"/>
              </a:lnSpc>
              <a:buClr>
                <a:srgbClr val="009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00"/>
                </a:solidFill>
                <a:latin typeface="Arial Narrow"/>
              </a:rPr>
              <a:t>To be accomplished: Paper for Forest Update ready; other actions to be defi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Narrow"/>
              </a:rPr>
              <a:t>Summary of the outcomes of Project PD-142</a:t>
            </a:r>
            <a:endParaRPr b="0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 Narrow"/>
              </a:rPr>
              <a:t>Critical analysis, lessons learned and contributions of Project PD-142</a:t>
            </a: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56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he projects was delayed due to several reasons, but mostly because of governmental and institutional changes that impacted on the management of the National Forests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ome outcomes were only partially accomplished; nonetheless, most of the information for the development of Management Plans has already been produced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Project was designed to implement a policy in 3 National Forests, while the same policy was demanded in all the others, hampering the prioritization and scattering the efforts of both the institutions involved – today, there is already quite a number of Management Plans for National Forests being implemented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he lack of governability of the Forest Service over the management of the FLONAS, such as Conservation Units, contributed to most shortcomings of the projec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  <a:ea typeface="Arial"/>
              </a:rPr>
              <a:t>Despite the shortcomings, the purpose that motivated the development of the project was entirely achieved, considering that, today, there is a legal benchmark for the management of public forests for the production of goods and services (Law 11.284/2006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 Narrow"/>
              </a:rPr>
              <a:t>Critical analysis, lessons learned and contributions of Project PD-142</a:t>
            </a: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052280"/>
            <a:ext cx="86421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Lessons lear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Governability and the capacity of the executing institution over the most relevant processes for the project are key factors for the full achievement of the expected outcom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ProjectPD-142 was developed to be executed by an institution that was not responsible for the execution of activities in FLONAS (MMA/Diflor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he lack of governability of SFB over the development of Management Plans of FLONAS somewhat reproduced the same mistake (1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Espaço Reservado para Conteúdo 2"/>
          <p:cNvSpPr/>
          <p:nvPr/>
        </p:nvSpPr>
        <p:spPr>
          <a:xfrm>
            <a:off x="322200" y="4005360"/>
            <a:ext cx="86425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he management of public forests for the production of goods and services (Law 11.284/2006) involves different processes that involve three institutions, what hampers the implementation of forest concessions in such fores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omplex institutional arrangement for a business/forest economy environ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 Narrow"/>
              </a:rPr>
              <a:t>Critical analysis, lessons learned and contributions of Project PD-142</a:t>
            </a: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1720" y="1196640"/>
            <a:ext cx="84135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ain Contributions of Project PD-14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Arial"/>
              </a:rPr>
              <a:t>Development of  a legal benchmark (Law 11.284/2006) for the management of public forests, being one of the elements present since the beginning of the discussions on the theme in the country, as a demonstrative means to implement this benchmark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124680" y="2924280"/>
            <a:ext cx="2535120" cy="3539880"/>
          </a:xfrm>
          <a:prstGeom prst="rect">
            <a:avLst/>
          </a:prstGeom>
          <a:ln w="0">
            <a:noFill/>
          </a:ln>
        </p:spPr>
      </p:pic>
      <p:sp>
        <p:nvSpPr>
          <p:cNvPr id="75" name="Espaço Reservado para Conteúdo 2"/>
          <p:cNvSpPr/>
          <p:nvPr/>
        </p:nvSpPr>
        <p:spPr>
          <a:xfrm>
            <a:off x="262080" y="2781360"/>
            <a:ext cx="589428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on of relevant information to manage National Fores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llowed the development of methodologies for forest inventory and for a social-environmental diagnosis that were permanently adopted by SFB and reproduced in other national forests in the context of their qualification for forest concession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apacities within the staff of the Forest Service,the Chico Mendes Institute and and also the IB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920" y="2852640"/>
            <a:ext cx="8664840" cy="1757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3333cc"/>
                </a:solidFill>
                <a:latin typeface="Arial Black"/>
              </a:rPr>
              <a:t>Thank you!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21:30:29Z</dcterms:created>
  <dc:creator>Joberto Veloso de Freitas</dc:creator>
  <dc:description/>
  <dc:language>en-US</dc:language>
  <cp:lastModifiedBy>admin1</cp:lastModifiedBy>
  <dcterms:modified xsi:type="dcterms:W3CDTF">2013-11-27T13:53:07Z</dcterms:modified>
  <cp:revision>354</cp:revision>
  <dc:subject/>
  <dc:title>Apresentação do PowerPoint</dc:title>
</cp:coreProperties>
</file>